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8.jpeg" ContentType="image/jpeg"/>
  <Override PartName="/ppt/media/type.wav" ContentType="audio/x-wav"/>
  <Override PartName="/ppt/media/image6.jpeg" ContentType="image/jpeg"/>
  <Override PartName="/ppt/media/image17.jpeg" ContentType="image/jpeg"/>
  <Override PartName="/ppt/media/image15.jpeg" ContentType="image/jpeg"/>
  <Override PartName="/ppt/media/image29.gif" ContentType="image/gif"/>
  <Override PartName="/ppt/media/image14.jpeg" ContentType="image/jpeg"/>
  <Override PartName="/ppt/media/image13.jpeg" ContentType="image/jpeg"/>
  <Override PartName="/ppt/media/click.wav" ContentType="audio/x-wav"/>
  <Override PartName="/ppt/media/hammer.wav" ContentType="audio/x-wav"/>
  <Override PartName="/ppt/media/image2.jpeg" ContentType="image/jpeg"/>
  <Override PartName="/ppt/media/image12.jpeg" ContentType="image/jpeg"/>
  <Override PartName="/ppt/media/image21.jpeg" ContentType="image/jpeg"/>
  <Override PartName="/ppt/media/chimes.wav" ContentType="audio/x-wav"/>
  <Override PartName="/ppt/media/camera.wav" ContentType="audio/x-wav"/>
  <Override PartName="/ppt/media/image22.jpeg" ContentType="image/jpeg"/>
  <Override PartName="/ppt/media/image24.jpeg" ContentType="image/jpeg"/>
  <Override PartName="/ppt/media/image30.jpeg" ContentType="image/jpeg"/>
  <Override PartName="/ppt/media/image25.jpeg" ContentType="image/jpeg"/>
  <Override PartName="/ppt/media/image31.jpeg" ContentType="image/jpeg"/>
  <Override PartName="/ppt/media/suction.wav" ContentType="audio/x-wav"/>
  <Override PartName="/ppt/media/image4.jpeg" ContentType="image/jpeg"/>
  <Override PartName="/ppt/media/image26.jpeg" ContentType="image/jpeg"/>
  <Override PartName="/ppt/media/image32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push.wav" ContentType="audio/x-wav"/>
  <Override PartName="/ppt/media/image23.jpeg" ContentType="image/jpeg"/>
  <Override PartName="/ppt/media/image36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voltage.wav" ContentType="audio/x-wav"/>
  <Override PartName="/ppt/media/image37.jpeg" ContentType="image/jpeg"/>
  <Override PartName="/ppt/media/image7.jpeg" ContentType="image/jpeg"/>
  <Override PartName="/ppt/media/image35.gif" ContentType="image/gif"/>
  <Override PartName="/ppt/media/image9.jpeg" ContentType="image/jpeg"/>
  <Override PartName="/ppt/media/image11.png" ContentType="image/png"/>
  <Override PartName="/ppt/media/image19.jpeg" ContentType="image/jpeg"/>
  <Override PartName="/ppt/media/wind.wav" ContentType="audio/x-wav"/>
  <Override PartName="/ppt/media/image16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078-2607-4D1E-911A-7E5318C3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1CAB-D650-42BB-A2BB-DE65142C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77EC-C034-4741-93FF-5BC94B9E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1E56-156B-41A9-A425-97D885D5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5C9-E9F9-47FE-BB4A-7B8B6C92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96A5-8AA0-4CF1-A71B-C5919F7C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A0A-31B7-4B63-BE25-1B000FAE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D03-8251-4948-95F5-63664128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A8C-21FA-4931-98C7-BC97E69B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05C-4609-4A74-9423-7DD4EC86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410-3F8F-4602-ABAD-50883E5C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0FB-1AFB-4A57-AC73-A2634928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0607-57AD-4D94-A786-E8D41C40C3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2.xml"/><Relationship Id="rId4" Type="http://schemas.openxmlformats.org/officeDocument/2006/relationships/image" Target="../media/image11.png"/><Relationship Id="rId5" Type="http://schemas.openxmlformats.org/officeDocument/2006/relationships/image" Target="../media/image17.jpe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" Target="slide2.xml"/><Relationship Id="rId5" Type="http://schemas.openxmlformats.org/officeDocument/2006/relationships/image" Target="../media/image11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audio" Target="../media/hammer.wav"/><Relationship Id="rId8" Type="http://schemas.openxmlformats.org/officeDocument/2006/relationships/audio" Target="../media/suction.wav"/><Relationship Id="rId9" Type="http://schemas.openxmlformats.org/officeDocument/2006/relationships/audio" Target="../media/click.wav"/><Relationship Id="rId10" Type="http://schemas.openxmlformats.org/officeDocument/2006/relationships/audio" Target="../media/type.wav"/><Relationship Id="rId11" Type="http://schemas.openxmlformats.org/officeDocument/2006/relationships/audio" Target="../media/click.wav"/><Relationship Id="rId12" Type="http://schemas.openxmlformats.org/officeDocument/2006/relationships/audio" Target="../media/push.wav"/><Relationship Id="rId13" Type="http://schemas.openxmlformats.org/officeDocument/2006/relationships/audio" Target="../media/push.wav"/><Relationship Id="rId14" Type="http://schemas.openxmlformats.org/officeDocument/2006/relationships/audio" Target="../media/voltage.wav"/><Relationship Id="rId15" Type="http://schemas.openxmlformats.org/officeDocument/2006/relationships/audio" Target="../media/voltage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" Target="slide17.xml"/><Relationship Id="rId5" Type="http://schemas.openxmlformats.org/officeDocument/2006/relationships/image" Target="../media/image11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" Target="slide17.xml"/><Relationship Id="rId4" Type="http://schemas.openxmlformats.org/officeDocument/2006/relationships/image" Target="../media/image11.png"/><Relationship Id="rId5" Type="http://schemas.openxmlformats.org/officeDocument/2006/relationships/image" Target="../media/image26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" Target="slide17.xml"/><Relationship Id="rId4" Type="http://schemas.openxmlformats.org/officeDocument/2006/relationships/image" Target="../media/image11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" Target="slide17.xml"/><Relationship Id="rId4" Type="http://schemas.openxmlformats.org/officeDocument/2006/relationships/image" Target="../media/image11.png"/><Relationship Id="rId5" Type="http://schemas.openxmlformats.org/officeDocument/2006/relationships/image" Target="../media/image31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" Target="slide17.xml"/><Relationship Id="rId5" Type="http://schemas.openxmlformats.org/officeDocument/2006/relationships/image" Target="../media/image11.png"/><Relationship Id="rId6" Type="http://schemas.openxmlformats.org/officeDocument/2006/relationships/image" Target="../media/image34.jpeg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hammer.wav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gif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" Target="slide2.xml"/><Relationship Id="rId10" Type="http://schemas.openxmlformats.org/officeDocument/2006/relationships/image" Target="../media/image11.png"/><Relationship Id="rId11" Type="http://schemas.openxmlformats.org/officeDocument/2006/relationships/audio" Target="../media/suction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wind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2421000"/>
            <a:ext cx="7743600" cy="14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</a:t>
            </a: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9</a:t>
            </a: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课中华文化的勃兴（二）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黑体"/>
              </a:rPr>
              <a:t>第二单元   国家的产生和社会的变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48000" y="3716280"/>
            <a:ext cx="2847960" cy="1438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4581360"/>
            <a:ext cx="8569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隶书"/>
              </a:rPr>
              <a:t>儒家经典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书：《论语》《孟子》《大学》《中庸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经：诗、书、礼、易、春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3680" y="6111720"/>
            <a:ext cx="581040" cy="48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39640" y="692280"/>
            <a:ext cx="5545080" cy="2639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948360" y="836640"/>
            <a:ext cx="10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  <a:ea typeface="隶书"/>
              </a:rPr>
              <a:t>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  <a:ea typeface="隶书"/>
              </a:rPr>
              <a:t>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  <a:ea typeface="隶书"/>
              </a:rPr>
              <a:t>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  <a:ea typeface="隶书"/>
              </a:rPr>
              <a:t>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90792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子曰：“学而时习之，不亦说乎？有朋自远方来，不亦乐乎？人不知而不愠，不亦君子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24210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子曰：“由！诲女知之乎！知之为知之，不知为不知，是知也。”</a:t>
            </a:r>
            <a:r>
              <a:rPr b="1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384192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冉有曰：“夫子为卫君乎？”子贡曰：“诺；吾将问之。”入，曰：“伯夷、叔齐何人也？”曰：“古之贤人也。”曰：“怨乎？”曰：“求仁而得仁，又何怨？”出，曰：“夫子不为也。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日本长崎孔庙大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338120" y="1981080"/>
            <a:ext cx="64659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越南河内文庙大拜堂内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338120" y="1981080"/>
            <a:ext cx="64659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德国科隆孔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38120" y="1981080"/>
            <a:ext cx="64659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2838600" cy="3495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203640" y="162864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子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292720" y="1052640"/>
            <a:ext cx="2876400" cy="2886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96000" y="443700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《道德经》书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83680" y="6308640"/>
            <a:ext cx="581040" cy="486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4797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知人者智，自知者明；胜人者有力，自胜者强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445000"/>
            <a:ext cx="896472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了解别人的人有智慧，了解自己的人有洞察力；战胜别人的人有力量，战胜自己的人才是强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百家争鸣的历史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24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经济上：铁农具和牛耕技术出现，促进了生产力的极大发展，私田开垦，冲击奴隶社会土地所有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军事上：大规模军事战争从春秋五霸到战国七雄，奴隶社会逐渐瓦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政治上：以商鞅变法为代表的变法运动，使地初步建立。主阶级夺取政权，封建社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4320" y="2421000"/>
            <a:ext cx="127764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百家争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052640"/>
            <a:ext cx="360360" cy="446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2195640" y="84924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墨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681120"/>
            <a:ext cx="142920" cy="86508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12920" y="46512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墨家学派创始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12920" y="1100160"/>
            <a:ext cx="21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思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5080" y="1100160"/>
            <a:ext cx="31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兼爱”“非攻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0920" y="1989000"/>
            <a:ext cx="144720" cy="1008360"/>
          </a:xfrm>
          <a:custGeom>
            <a:avLst/>
            <a:gdLst>
              <a:gd name="textAreaLeft" fmla="*/ 92520 w 144720"/>
              <a:gd name="textAreaRight" fmla="*/ 145080 w 14472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1819440"/>
            <a:ext cx="9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孟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1851120"/>
            <a:ext cx="56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提出“春秋无义战”，反对战争，“仁政”治国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轻徭薄赋，爱护自然资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2247840" y="278136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荀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28591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提出“制天命而用之”，人能认识自然规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要按自然规律办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4" action="ppaction://hlinksldjump"/>
          </p:cNvPr>
          <p:cNvSpPr/>
          <p:nvPr/>
        </p:nvSpPr>
        <p:spPr>
          <a:xfrm>
            <a:off x="2247840" y="3716280"/>
            <a:ext cx="10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庄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82760" y="3716280"/>
            <a:ext cx="52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张顺其自然，“无为而治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7621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墨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50760" y="210024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儒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23840" y="3645000"/>
            <a:ext cx="13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道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436572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法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2268360" y="443700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韩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4437000"/>
            <a:ext cx="60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张改革，提倡法治，建立君主专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中央集权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23840" y="5156280"/>
            <a:ext cx="13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兵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2268360" y="5229360"/>
            <a:ext cx="11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孙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4240" y="522936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孙子兵法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56200" y="529416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知己知彼，百战不殆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3584520" cy="4249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500720" y="2133720"/>
            <a:ext cx="4319280" cy="2663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221080" y="4941720"/>
            <a:ext cx="271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《墨子》书影 清光绪湖北崇文书刻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总计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53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篇，大多为墨翟弟子及其后世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人对墨翟言行的记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71640" y="2421000"/>
            <a:ext cx="466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子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17080" y="6093000"/>
            <a:ext cx="580680" cy="485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55640" y="2133720"/>
            <a:ext cx="7543800" cy="33526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墨子，战国初期伟大的思想家，墨家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派的创始人。姓墨名翟，生卒年不详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墨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张“兼爱”、“非攻”，反对兼并战争。他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视科学技术和逻辑学的研究。对我国古代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做出了突出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0" dur="1" fill="hold"/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321440" cy="40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6492960" y="55897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《荀子》书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95280" y="1916280"/>
            <a:ext cx="457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子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3000"/>
            <a:ext cx="580680" cy="485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187280" y="1052640"/>
            <a:ext cx="3168720" cy="45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900000" y="2133720"/>
            <a:ext cx="7543800" cy="33526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战国末思想家、教育家。名况（约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～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），号卿，赵国人。曾游学于齐，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任稷下学宫“祭酒”。批判地总结诸子学说，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儒学中推崇孔学而指斥思孟学派。政治上主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礼法兼用，王霸并行。批驳天命观念，否认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神迷信之说。提出天人之分观点，论证阐述“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天命而用之”的思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3" dur="1" fill="hold"/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3637080" y="-1251000"/>
            <a:ext cx="15240240" cy="82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780000" y="981000"/>
            <a:ext cx="5364000" cy="496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5508720" y="6021360"/>
            <a:ext cx="15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《庄子》书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59280" y="1628640"/>
            <a:ext cx="36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庄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子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3000"/>
            <a:ext cx="580680" cy="485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179280" y="907920"/>
            <a:ext cx="2781360" cy="500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539640" y="1341360"/>
            <a:ext cx="8353440" cy="4824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战国时哲学家，道家学派主要代表人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继承发挥老子思想，以“道”为世界的本原，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为道“自本自根，未有天地，自古以固存；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鬼神帝，生天生地”，无为无形，可得而不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见。又以为万物无时不变化推移，原因在于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内部有两种力量互相作用。但又认为，事物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间本质上无差别。要求人们安时处顺，逍遥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得，顺应世俗，随遇而安。为文汪洋恣肆，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象丰富，善用寓言，富有浓厚的文学气息和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漫主义色彩，颇有艺术价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6" dur="1" fill="hold"/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83898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庄子主张 </a:t>
            </a:r>
            <a:r>
              <a:rPr b="0" lang="zh-CN" sz="6000" spc="-1" strike="noStrike">
                <a:solidFill>
                  <a:srgbClr val="333300"/>
                </a:solidFill>
                <a:latin typeface="Times New Roman"/>
                <a:ea typeface="华文新魏"/>
              </a:rPr>
              <a:t>“无为而治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荀子主张 </a:t>
            </a:r>
            <a:r>
              <a:rPr b="0" lang="zh-CN" sz="6000" spc="-1" strike="noStrike">
                <a:solidFill>
                  <a:srgbClr val="333300"/>
                </a:solidFill>
                <a:latin typeface="华文新魏"/>
                <a:ea typeface="华文新魏"/>
              </a:rPr>
              <a:t>“制天命而用之”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4464000" cy="42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5364000" y="5950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《韩非子》书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067280" y="907920"/>
            <a:ext cx="4316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韩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非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子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3000"/>
            <a:ext cx="580680" cy="485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179280" y="907920"/>
            <a:ext cx="3775320" cy="49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539640" y="1125360"/>
            <a:ext cx="7620120" cy="4572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战国末思想家，法家思想的代表人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创立了以法为本，法术势相结合的法治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系。其著作收集在《韩非子》中。哲学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提出“道”与“理”相区别，主张循名实而定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非，以参验言辞。注重对立面关系的研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首次制定“矛盾”范畴，概括事物之对立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分历史为“上古”、“中古”、“近古”、“当今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诸阶段，提出历史进化观点，并以“人民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而货财寡”说明社会动乱的原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9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3311280" cy="4103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01200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孫子兵法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35640" y="549360"/>
            <a:ext cx="2951280" cy="5184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916360" y="1628640"/>
            <a:ext cx="466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武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6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17080" y="6093000"/>
            <a:ext cx="580680" cy="485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4140360" y="907920"/>
            <a:ext cx="4608360" cy="4537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332400" y="155736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清版《孙子兵法》书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692280"/>
            <a:ext cx="8137440" cy="5329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古代军事学家，中国古代军事学的奠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。春秋末期吴国将军。字长卿，齐国乐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因齐国内乱，孙武出走吴国。经吴国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臣伍员推荐，向吴王阖闾进呈所著兵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重用为将。孙武与伍员等辅助阖闾制定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楚方略，使楚疲于奔命，国力耗损。吴国“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破强楚，北威齐、晋，南服越人”，以一隅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而称霸，孙武起了重要作用。所著《孙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兵法》，总结了春秋末期及其以前的战争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，在中国和世界军事史上，最早比较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涉及战争全局问题，对后世产生了广泛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刻的影响。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9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2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你最喜欢的是哪家的学说？为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哪家的学法更适合当时社会的需要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如果你是一国之君，一校之长，一班之长，你认为应该如何治理国家、学校、班级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课堂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老子的学说记录在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《道德经》　　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《尚书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《论语》　　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《春秋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“苛政猛于虎也！”说这句话的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老子　　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孔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韩非子　　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庄子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2133720"/>
            <a:ext cx="720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6000" y="4149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324000" y="1557360"/>
            <a:ext cx="619272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627280" y="2276640"/>
            <a:ext cx="165564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方正姚体"/>
              </a:rPr>
              <a:t>再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方正姚体"/>
              <a:ea typeface="方正姚体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8" dur="250" autoRev="1" fill="hold"/>
                                        <p:tgtEl>
                                          <p:spTgt spid="1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5000" y="0"/>
            <a:ext cx="85723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2289240" cy="230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68360" y="3716280"/>
            <a:ext cx="2243160" cy="2355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987640" y="3860640"/>
            <a:ext cx="3240000" cy="2570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132000" y="404640"/>
            <a:ext cx="2857680" cy="2362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300720" y="1341360"/>
            <a:ext cx="2627280" cy="2290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948360" y="429264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1908000" y="0"/>
            <a:ext cx="3295800" cy="518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383680" y="6308640"/>
            <a:ext cx="581040" cy="48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2640" y="2946240"/>
            <a:ext cx="17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551——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前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4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孔子名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4360" y="1628640"/>
          <a:ext cx="7921440" cy="3840120"/>
        </p:xfrm>
        <a:graphic>
          <a:graphicData uri="http://schemas.openxmlformats.org/drawingml/2006/table">
            <a:tbl>
              <a:tblPr/>
              <a:tblGrid>
                <a:gridCol w="1798560"/>
                <a:gridCol w="612288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135800" y="1628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17680" y="1700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孔子，名丘，字仲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2492280"/>
            <a:ext cx="184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生活时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30520" y="2637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春秋晚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80160" y="364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籍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39600" y="371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鲁国人（今山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653000"/>
            <a:ext cx="10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地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70480" y="436572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儒家学派的创始人，伟大的思想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育家，世界历史文化名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920" y="549360"/>
            <a:ext cx="2514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、孔子其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29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材料一、樊迟问仁。子曰：“爱人。”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材料二、孔子路过泰山的一侧，有一个在坟墓前哭得妇人看上去十分忧伤。孔子立起身来靠在横木上，派遣子路去问讯那个妇人。孔子说：“你哭得那么伤心，好像有很伤心的事。”那妇人说：“我的公公被老虎吃了，我的丈夫也被老虎吃了，现在我的儿子也被老虎吃了。”孔子问：“那你为什么不离开这里呢？妇人回答说：这里没有苛刻的暴政。”孔子说：“学生们记住了，苛刻的暴政比老虎还要凶猛可怕。”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材料三春秋时期，晋灵公荒淫无道，以重税来满足奢侈的生活。他在高台上用弹弓射行人，观看他们躲避弹丸的样子。一次因为熊掌没有炖烂，就把厨师杀掉，把尸体撞到筐子里让宫女拿去扔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306440"/>
            <a:ext cx="8229600" cy="539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3348000" y="765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孔子讲学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孔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47640" y="476280"/>
            <a:ext cx="741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丘，字仲尼。春秋末期鲁国人，儒家学派创始人，中国古代著名思想家、教育家。中国思想文化的主要代表人物，世界历史文化名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政治主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56000" y="2060640"/>
            <a:ext cx="16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206064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爱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2000" y="2060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为政以德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3357720"/>
            <a:ext cx="21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教育成就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95840" y="2586600"/>
            <a:ext cx="429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教育对象：有教无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教学方法：因材施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态度：知之为知之，不知为不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方法：温故而知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3" action="ppaction://hlinksldjump"/>
          </p:cNvPr>
          <p:cNvSpPr/>
          <p:nvPr/>
        </p:nvSpPr>
        <p:spPr>
          <a:xfrm>
            <a:off x="250920" y="5084640"/>
            <a:ext cx="20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文化成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84360" y="4797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整理古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56000" y="494172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《诗经》、《尚书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59640" y="4797360"/>
            <a:ext cx="22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春秋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11280" y="558972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言论记录在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《论语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277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12000" y="549360"/>
            <a:ext cx="288288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916360" y="549360"/>
            <a:ext cx="2914560" cy="47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3768480" y="558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Times New Roman"/>
              </a:rPr>
              <a:t>孔子弟子冉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89440" y="55897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Times New Roman"/>
              </a:rPr>
              <a:t>孔子弟子仲由（字子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87040" y="558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Times New Roman"/>
              </a:rPr>
              <a:t>孔子弟子颜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01:27:52Z</dcterms:created>
  <dc:creator>www.dearedu.com; 为您服务教育网　http://www.wsbedu.com/</dc:creator>
  <dc:description>www.dearedu.com</dc:description>
  <cp:keywords>www.dearedu.com</cp:keywords>
  <dc:language>en-US</dc:language>
  <cp:lastModifiedBy>微软用户</cp:lastModifiedBy>
  <dcterms:modified xsi:type="dcterms:W3CDTF">2011-10-24T05:54:42Z</dcterms:modified>
  <cp:revision>65</cp:revision>
  <dc:subject>www.dearedu.com</dc:subject>
  <dc:title>www.dearedu.com</dc:title>
</cp:coreProperties>
</file>